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7B3-FAA8-493D-96F1-2D99446C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A90-F8A1-4DA6-A0FC-8703042A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AB3-B6FA-4029-9CF4-DD84936E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EC5-2E84-4E55-BE4D-F1E42410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E74-7947-4029-970B-53D9D62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C97-D51C-46D1-928C-F5616B1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DD9-983A-4DC3-B5AE-F4716881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870-085A-4F1A-B71A-D7F5F479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754-CD47-4417-BB99-9D1ECAF3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C23-AC72-4923-BBBF-87CC9E5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9A6-D4FA-4D9A-88BE-051AAC8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B98-BD08-408D-A500-294EF7C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6185-5C0D-400E-B591-246CC892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1940193eoCHDP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6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ق ما كان دنسا أرو ما كان جافا     واشف منا الجرا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1619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منح أبناءك المواهب والفضيلة ثوابا  و الخلاص مصيراً والسعادة الأبد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099056GfuHbDJfYF_ph" descr=""/>
          <p:cNvPicPr/>
          <p:nvPr/>
        </p:nvPicPr>
        <p:blipFill>
          <a:blip r:embed="rId2"/>
          <a:stretch/>
        </p:blipFill>
        <p:spPr>
          <a:xfrm>
            <a:off x="3430440" y="57240"/>
            <a:ext cx="571356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520"/>
            <a:ext cx="297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م يا أبا المساكين ، هلم يا مانح المواهب،                                                       هلم يا ضياء القلو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6257769qxRtHzTkJC_ph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609480"/>
            <a:ext cx="27432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عزيا جليلا يا ضيف النفس العذ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   يا هناءً حلواً يا رفيق الدرب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8120"/>
            <a:ext cx="26668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cs typeface="Times New Roman"/>
              </a:rPr>
              <a:t>أنت في الكد راحة وفي الحر برود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  وفي البكاء عزاء</a:t>
            </a:r>
            <a:r>
              <a:rPr b="0" lang="ar-SA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990720"/>
            <a:ext cx="243828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بهجة النور الساطع إملأ قلوب ال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ضرمها بنار المحبة إملأها حتى الصميم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04:22Z</dcterms:created>
  <dc:creator>SUZANNE.MD</dc:creator>
  <dc:description/>
  <dc:language>en-US</dc:language>
  <cp:lastModifiedBy>USER</cp:lastModifiedBy>
  <dcterms:modified xsi:type="dcterms:W3CDTF">2002-12-16T13:47:47Z</dcterms:modified>
  <cp:revision>2</cp:revision>
  <dc:subject/>
  <dc:title>PowerPoint Presentation</dc:title>
</cp:coreProperties>
</file>